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1C1-5C4C-47F8-A418-7E13B1F0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5FD-215D-4FB3-B7D9-03B2DEE3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B85-1D3E-496E-AA3F-7041EEF3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1E6-68D3-45E7-B13C-73F2FB07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81CF-9638-4034-BD23-1B5FE582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C5C4-7F68-4892-BA49-4A002F92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3FF8-8FE0-4E50-A504-3CD3416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4835-4877-45DF-A91C-EFF09D9C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A0D2-13C0-4B48-B262-22202C0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9DEA-DA45-4805-B4E0-E0830179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9502-3043-4CB4-A34C-3116850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E95-D75B-4A19-AD04-81E452BC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541-5DD2-43D5-A712-D5BE8FA7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5C8B-DC7D-43F9-A5F1-96C1DF1C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533F-4DB0-4B66-8F8B-DA4C89A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424C-1EA6-4426-87FA-7793C301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65E-FA18-4B0D-9E9E-AAF6796F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5D9-CFD0-46BB-A099-F9AD6AFB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B96-CFD7-4739-B84A-B10BA091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C6B-E149-4DAC-A961-3CB96961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C86-044B-4F8F-A901-5E16F762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829-3FFD-4B0B-BC15-F381652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B02-4363-43BE-98D0-1113D4C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874-F9E0-443A-8B3A-F28183F5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29F-EEFB-4AAA-99C4-E9434387B06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585F-A9D3-414C-99FF-F51EBC5E164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5790960" cy="1523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YOUR  GAM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19160" y="2437920"/>
            <a:ext cx="5181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The United Kingdom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of Great Britai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nd Northern Ireland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“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558684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mic Sans MS"/>
              </a:rPr>
              <a:t>Сорокина Наталия Виктор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Comic Sans MS"/>
              </a:rPr>
              <a:t>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mic Sans MS"/>
              </a:rPr>
              <a:t>МОУ СОШ №1 г. Пок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YOUR  GAME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The 1st rou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1st roun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057400"/>
          <a:ext cx="8229600" cy="4183200"/>
        </p:xfrm>
        <a:graphic>
          <a:graphicData uri="http://schemas.openxmlformats.org/drawingml/2006/table">
            <a:tbl>
              <a:tblPr/>
              <a:tblGrid>
                <a:gridCol w="1530360"/>
                <a:gridCol w="1401480"/>
                <a:gridCol w="1630440"/>
                <a:gridCol w="1792440"/>
                <a:gridCol w="18748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omic Sans MS"/>
                          <a:ea typeface="Times New Roman"/>
                        </a:rPr>
                        <a:t>One, two, thr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omic Sans MS"/>
                          <a:ea typeface="Times New Roman"/>
                        </a:rPr>
                        <a:t>Mosa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omic Sans MS"/>
                          <a:ea typeface="Times New Roman"/>
                        </a:rPr>
                        <a:t>Holi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omic Sans MS"/>
                          <a:ea typeface="Times New Roman"/>
                        </a:rPr>
                        <a:t>Geograph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omic Sans MS"/>
                          <a:ea typeface="Times New Roman"/>
                        </a:rPr>
                        <a:t>Going sight</a:t>
                      </a: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Comic Sans MS"/>
                          <a:ea typeface="Times New Roman"/>
                        </a:rPr>
                        <a:t>see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YOUR  GAME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Comic Sans MS"/>
              </a:rPr>
              <a:t>The 2nd rou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2nd roun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1828800"/>
          <a:ext cx="7696080" cy="4811760"/>
        </p:xfrm>
        <a:graphic>
          <a:graphicData uri="http://schemas.openxmlformats.org/drawingml/2006/table">
            <a:tbl>
              <a:tblPr/>
              <a:tblGrid>
                <a:gridCol w="1538280"/>
                <a:gridCol w="1539720"/>
                <a:gridCol w="1540080"/>
                <a:gridCol w="1539720"/>
                <a:gridCol w="15382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Writers and their wor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Symbols &amp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Tradi-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Ga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</a:rPr>
                        <a:t>The British Parlia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Famous  peo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 Rounded MT Bold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YOUR  GAME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he 3rd rou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3rd roun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22992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Comic Sans MS"/>
              </a:rPr>
              <a:t>The British Hist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1-24T10:58:3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